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CE2-5950-4B53-8B2B-CEB5E8D3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6CD6-5DBC-4011-B7E8-FAC974CA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A11-38B1-41A8-900D-B93409EE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1A2-F336-4986-8E29-0AE9766F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52C-48C3-4EBA-A5F6-F9DBD09F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E90-2C16-48BC-ADA1-828CB962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674-4282-459C-8ABB-86A79092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5DA-2755-4C98-A5D5-D4092C9C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C04-980C-4595-818E-632985DA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7E3-E089-48C7-9984-13D4BB34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5BF-F2A2-4870-B212-99260AF6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F4D8-347E-4981-9E3D-10E95AA6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21BB-E8E9-437F-90EC-72BEE5B68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rismus1.files.wordpress.com/2007/04/eg-kub_2_1withpaint.jpg" TargetMode="External"/><Relationship Id="rId2" Type="http://schemas.openxmlformats.org/officeDocument/2006/relationships/hyperlink" Target="http://www.billybarton.com/blog/images/kidney_stone.jpg" TargetMode="External"/><Relationship Id="rId3" Type="http://schemas.openxmlformats.org/officeDocument/2006/relationships/hyperlink" Target="http://blog.luckyvitamin.com/wp-content/uploads/2007/11/kidney-stone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yourtech.typepad.com/main/WindowsLiveWriter/Windowsmonopolylinkedtokidneystones_10A83/KidneyStone1a%255B2%255D.jpg&amp;imgrefurl=http://yourtech.typepad.com/main/2007/05/index.html&amp;h=464&amp;w=640&amp;sz=169&amp;hl=en&amp;start=14&amp;um=1&amp;tbnid=p05Lslbc7ltVeM:&amp;tbnh=99&amp;tbnw=137&amp;prev=/images%3Fq%3Dkidney%2Bstones%26um%3D1%26hl%3Den%26safe%3Dactive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95280" y="19810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dney St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alcium_oxalate_kidney_stones_08-24-2006"/>
          <p:cNvPicPr/>
          <p:nvPr/>
        </p:nvPicPr>
        <p:blipFill>
          <a:blip r:embed="rId1"/>
          <a:stretch/>
        </p:blipFill>
        <p:spPr>
          <a:xfrm>
            <a:off x="1143000" y="685800"/>
            <a:ext cx="683892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990720" y="380880"/>
            <a:ext cx="7130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ismus1.files.wordpress.com/2007/04/eg-kub_2_1withpain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illybarton.com/blog/images/kidney_ston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s.bbc.co.uk/.../img/6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log.luckyvitamin.com/wp-content/uploads/2007/11/kidney-ston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google.com/images?hl=en&amp;q=kidney+stones&amp;safe=active&amp;um=1&amp;ie=UTF-8&amp;sa=N&amp;tab=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akeridgehealth.on.ca/patient_care/interventional_radiology/presentations/radiology/kidney_ston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hecureforkidneystones.com/kidney_stones_in_wome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ogerwendell.com/images/cancer/calcium_oxalate_kidney_stones_08-24-200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kidney_stone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kidney-stone"/>
          <p:cNvPicPr/>
          <p:nvPr/>
        </p:nvPicPr>
        <p:blipFill>
          <a:blip r:embed="rId1"/>
          <a:stretch/>
        </p:blipFill>
        <p:spPr>
          <a:xfrm>
            <a:off x="1676520" y="380880"/>
            <a:ext cx="540072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KidneyStone1a%255B2%255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914400"/>
            <a:ext cx="64771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kidney_stone"/>
          <p:cNvPicPr/>
          <p:nvPr/>
        </p:nvPicPr>
        <p:blipFill>
          <a:blip r:embed="rId1"/>
          <a:stretch/>
        </p:blipFill>
        <p:spPr>
          <a:xfrm>
            <a:off x="1143000" y="457200"/>
            <a:ext cx="6324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5410080" y="703080"/>
            <a:ext cx="3429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kidney stones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April 16, 2003, Don Winfield of Caledonia, Ontario, Canada, has produced and passed an excruciating 4,504 kidney stones, ranging in size from a grain of sand to a dried pe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ually, the kidney had to be remo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At its worst," says Don, "I produced 22 stones in 24 hours... and 35 over a period of five day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19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eg-kub_2_1withpaint"/>
          <p:cNvPicPr/>
          <p:nvPr/>
        </p:nvPicPr>
        <p:blipFill>
          <a:blip r:embed="rId1"/>
          <a:stretch/>
        </p:blipFill>
        <p:spPr>
          <a:xfrm>
            <a:off x="1523880" y="0"/>
            <a:ext cx="562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kidney_stones_in_women"/>
          <p:cNvPicPr/>
          <p:nvPr/>
        </p:nvPicPr>
        <p:blipFill>
          <a:blip r:embed="rId1"/>
          <a:stretch/>
        </p:blipFill>
        <p:spPr>
          <a:xfrm>
            <a:off x="1523880" y="457200"/>
            <a:ext cx="615312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8:39:07Z</dcterms:created>
  <dc:creator>jcameron</dc:creator>
  <dc:description/>
  <dc:language>en-US</dc:language>
  <cp:lastModifiedBy>jcameron</cp:lastModifiedBy>
  <dcterms:modified xsi:type="dcterms:W3CDTF">2013-03-12T12:32:58Z</dcterms:modified>
  <cp:revision>7</cp:revision>
  <dc:subject/>
  <dc:title>Slide 1</dc:title>
</cp:coreProperties>
</file>